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0E8B-9190-405D-8BC3-C7D9DD587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1233-2F1C-47FB-9441-6C55A8097D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2E24-1B9E-481E-A9B1-8E1EF1C8CD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24C8-E5F5-4996-B6BC-F1ABDB1D57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5399-78CF-4A3E-9166-7F1CB5D081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F214-D332-4085-B588-65CD1A3191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6F0F-7060-4B3D-A89C-CCD21BE7E6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757B-0328-48CF-9508-E26625A497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E013-F634-49E2-94B7-6DD6E9097F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B19E-ED06-42CB-94BC-102CC5444E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7E0D-5F6D-4042-A6DC-359B3C1A86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83EE-96BF-4222-A983-964DF9FB2B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14560" y="679320"/>
            <a:ext cx="4628880" cy="34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5040" y="4376520"/>
            <a:ext cx="5047920" cy="40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3351-0E7B-4F31-B96B-DEC7281537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898F-2FFB-4ABD-8A9E-5CE33D9062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515B-19D2-4DCE-8602-5B3B06D293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667D-9F7F-485F-9FAD-8933DD0B8E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61E5-466D-4C91-8D14-A84C5F0BEB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9FEF-687B-4314-811E-E0772ADD62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44956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Extraction from 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strawberries.jpg"/>
          <p:cNvPicPr/>
          <p:nvPr/>
        </p:nvPicPr>
        <p:blipFill>
          <a:blip r:embed="rId1"/>
          <a:stretch/>
        </p:blipFill>
        <p:spPr>
          <a:xfrm>
            <a:off x="99072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ap &amp; Deterg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ap gathers between oil and water capturing the oil in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ubbl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led a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micel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 wash your hands,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ap carries the oils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awn dishwash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orks BEST to re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hospholipid membra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5" descr="micelle"/>
          <p:cNvPicPr/>
          <p:nvPr/>
        </p:nvPicPr>
        <p:blipFill>
          <a:blip r:embed="rId1"/>
          <a:stretch/>
        </p:blipFill>
        <p:spPr>
          <a:xfrm>
            <a:off x="6172200" y="1752480"/>
            <a:ext cx="2587680" cy="4191120"/>
          </a:xfrm>
          <a:prstGeom prst="rect">
            <a:avLst/>
          </a:prstGeom>
          <a:ln w="0">
            <a:noFill/>
          </a:ln>
        </p:spPr>
      </p:pic>
      <p:sp>
        <p:nvSpPr>
          <p:cNvPr id="104" name="Line 6"/>
          <p:cNvSpPr/>
          <p:nvPr/>
        </p:nvSpPr>
        <p:spPr>
          <a:xfrm>
            <a:off x="5943600" y="2743200"/>
            <a:ext cx="18288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ap &amp; Deterg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adding a small amount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ble salt (NaCl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he soap solution, the solution c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unch ho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nuclear and cell membra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apy solu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so help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oves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5" descr="Carlops-extrac"/>
          <p:cNvPicPr/>
          <p:nvPr/>
        </p:nvPicPr>
        <p:blipFill>
          <a:blip r:embed="rId1"/>
          <a:srcRect l="5359" t="0" r="16072" b="0"/>
          <a:stretch/>
        </p:blipFill>
        <p:spPr>
          <a:xfrm>
            <a:off x="5715000" y="2133720"/>
            <a:ext cx="2971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other Way to Remove Protei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is tightly coiled around protein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isto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s must be removed to see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nzym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like the ones found in meat tenderizer, can remove prot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" descr="chrom1"/>
          <p:cNvPicPr/>
          <p:nvPr/>
        </p:nvPicPr>
        <p:blipFill>
          <a:blip r:embed="rId1"/>
          <a:stretch/>
        </p:blipFill>
        <p:spPr>
          <a:xfrm>
            <a:off x="1752480" y="4038480"/>
            <a:ext cx="5181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tracting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tents of the ce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organelles, proteins, etc.) must be separated from the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rger cell pa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n be removed by filtering the solid from the liqu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7" descr="Filtering the strawberry mixture"/>
          <p:cNvPicPr/>
          <p:nvPr/>
        </p:nvPicPr>
        <p:blipFill>
          <a:blip r:embed="rId1"/>
          <a:srcRect l="30359" t="0" r="14288" b="0"/>
          <a:stretch/>
        </p:blipFill>
        <p:spPr>
          <a:xfrm>
            <a:off x="5834160" y="1905120"/>
            <a:ext cx="2925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tracting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ee DNA, it 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tracted or “spoole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the remaining liquid you filt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dissolves in water, bu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OT in alcoh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ng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LD ALCOHO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ll cause DNA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cipitate (separate out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the liquid filt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llecting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ll appear a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ite precipi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ce the alcohol is add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 THE TUBE by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not the bottom so the DNA strands won’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ragment from the heat of your hand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5" descr="strawberry%20DNA"/>
          <p:cNvPicPr/>
          <p:nvPr/>
        </p:nvPicPr>
        <p:blipFill>
          <a:blip r:embed="rId1"/>
          <a:stretch/>
        </p:blipFill>
        <p:spPr>
          <a:xfrm>
            <a:off x="6172200" y="1828800"/>
            <a:ext cx="2567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pooling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ick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will adhere to other surf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lass stirring r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n be used to spool (remove) the DNA by using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urning mo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5" descr="S-10"/>
          <p:cNvPicPr/>
          <p:nvPr/>
        </p:nvPicPr>
        <p:blipFill>
          <a:blip r:embed="rId1"/>
          <a:stretch/>
        </p:blipFill>
        <p:spPr>
          <a:xfrm>
            <a:off x="5951520" y="1676520"/>
            <a:ext cx="2430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 DNA in My Food??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is present i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ells of all living organis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ces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tracting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a cell is the first step for man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boratory procedures in biotechnolo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cientist must be able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parate DNA from the unwanted substances of the ce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ently enough so that the DNA does not denature (break up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6"/>
          <p:cNvSpPr/>
          <p:nvPr/>
        </p:nvSpPr>
        <p:spPr>
          <a:xfrm>
            <a:off x="7620120" y="6369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cell contain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9 feet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n average meal, you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AT approximately 55,000,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equal to approximatel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93,205 miles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Fa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6324480" y="1295280"/>
            <a:ext cx="2473560" cy="53262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NA is found in 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nucleu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all eukaryotic ce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st cells have 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iploid 2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hromosome numb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ny plants ar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olyploi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(contain several sets of chromosome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trawberri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ar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ctaploid 8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NA is enclosed in a nuclear and a cell membrane made of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hospholipi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NA is als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iled around protei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th the phospholipid layer and the proteins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ust be remov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see DN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ell300%20xnew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0" y="5943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CLEUS with D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Extract DNA, You Must Remove 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uclear membr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I Beg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the strawberry in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zip lock ba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remove the 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quas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erry with your hand to begin the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5" descr="Crushing a strawberry"/>
          <p:cNvPicPr/>
          <p:nvPr/>
        </p:nvPicPr>
        <p:blipFill>
          <a:blip r:embed="rId1"/>
          <a:srcRect l="0" t="0" r="0" b="21429"/>
          <a:stretch/>
        </p:blipFill>
        <p:spPr>
          <a:xfrm>
            <a:off x="2362320" y="3962520"/>
            <a:ext cx="4267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 membranes are made of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hospholip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olipid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n’t dissolve in w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do you use in your home to remove oils from your hands or your dish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AP or DETERGEN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5" descr="slide0007_image007"/>
          <p:cNvPicPr/>
          <p:nvPr/>
        </p:nvPicPr>
        <p:blipFill>
          <a:blip r:embed="rId1"/>
          <a:stretch/>
        </p:blipFill>
        <p:spPr>
          <a:xfrm>
            <a:off x="5334120" y="1905120"/>
            <a:ext cx="3128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7:42:08Z</dcterms:created>
  <dc:creator>cmassengale</dc:creator>
  <dc:description/>
  <dc:language>en-US</dc:language>
  <cp:lastModifiedBy>cmassengale</cp:lastModifiedBy>
  <dcterms:modified xsi:type="dcterms:W3CDTF">2009-04-03T18:14:26Z</dcterms:modified>
  <cp:revision>9</cp:revision>
  <dc:subject/>
  <dc:title>DNA Extraction</dc:title>
</cp:coreProperties>
</file>